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882-F82B-420B-A83C-9ADB111C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1C5-FE3B-4087-A8D5-57BE2E91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D23-B11E-46FD-B60E-0729E48E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594-A008-4285-92D4-3DF5D66B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8D5B-E306-4843-8F48-D2227A28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171F-FA1D-49F9-9947-35F4D4E2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CA03-D98E-435C-81ED-B7ABCFBE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FD0C-B390-4FC2-84D7-270DEC90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D0DE-3D1A-4188-ACE8-CB5DE24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1C99-E6D0-48C4-8E54-8F0632FC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B169-1E70-4526-9DD3-B9C4D6F3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D5F-BD77-4DAE-B386-8DB2E4B5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6CC8-CFE1-4FC9-B39A-EF93179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CFC-FD02-4B3E-BAC3-810C6A70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0E0D-32F8-4C9F-9ED0-39A147AF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6A9-D9DC-4E02-BF51-7B652C14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7EAD-5B4B-4936-87C5-68C6CE62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515-ADDA-48CA-B36E-DED12937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C7E-442C-4E46-82AE-F06D4D0F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234-A71C-4210-A22B-AD131A6E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CDB-6915-450B-9287-6932193C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662-4216-4576-9D88-065EDE68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6C6-9941-4EB6-AC9C-509DA56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4F6-68FE-4BC5-80D1-CB29260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44A0-6044-48C6-9649-C80EF2BAF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9FC0-4377-4A6F-8B10-46770A11C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9320" y="33336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awyren yr awyrlu yn teithio dros wlad ryfelg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9080" y="1125360"/>
            <a:ext cx="83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r mwyn bod yn saff, rhaid teithio ar lwybr sydd yn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anner ffordd rhwng y ddwy dref A a 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040" y="573408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a lwybr rhaid i’r awyren deithi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04160" y="2205000"/>
            <a:ext cx="627840" cy="581400"/>
            <a:chOff x="2504160" y="2205000"/>
            <a:chExt cx="627840" cy="581400"/>
          </a:xfrm>
        </p:grpSpPr>
        <p:sp>
          <p:nvSpPr>
            <p:cNvPr id="86" name=""/>
            <p:cNvSpPr/>
            <p:nvPr/>
          </p:nvSpPr>
          <p:spPr>
            <a:xfrm>
              <a:off x="2916360" y="227808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4160" y="220500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435640" y="5157720"/>
            <a:ext cx="587520" cy="581400"/>
            <a:chOff x="5435640" y="5157720"/>
            <a:chExt cx="587520" cy="581400"/>
          </a:xfrm>
        </p:grpSpPr>
        <p:sp>
          <p:nvSpPr>
            <p:cNvPr id="89" name=""/>
            <p:cNvSpPr/>
            <p:nvPr/>
          </p:nvSpPr>
          <p:spPr>
            <a:xfrm>
              <a:off x="5435640" y="5157720"/>
              <a:ext cx="216000" cy="215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77120" y="51577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10810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896000">
            <a:off x="4572000" y="2924280"/>
            <a:ext cx="289080" cy="287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831960" cy="676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32720" y="2852640"/>
            <a:ext cx="8316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61320" y="1454400"/>
            <a:ext cx="4416480" cy="28490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85400" y="1261800"/>
            <a:ext cx="5354640" cy="3478320"/>
            <a:chOff x="1985400" y="1261800"/>
            <a:chExt cx="5354640" cy="3478320"/>
          </a:xfrm>
        </p:grpSpPr>
        <p:grpSp>
          <p:nvGrpSpPr>
            <p:cNvPr id="97" name=""/>
            <p:cNvGrpSpPr/>
            <p:nvPr/>
          </p:nvGrpSpPr>
          <p:grpSpPr>
            <a:xfrm>
              <a:off x="1985400" y="1261800"/>
              <a:ext cx="641160" cy="602640"/>
              <a:chOff x="1985400" y="1261800"/>
              <a:chExt cx="641160" cy="602640"/>
            </a:xfrm>
          </p:grpSpPr>
          <p:sp>
            <p:nvSpPr>
              <p:cNvPr id="98" name=""/>
              <p:cNvSpPr/>
              <p:nvPr/>
            </p:nvSpPr>
            <p:spPr>
              <a:xfrm rot="21427800">
                <a:off x="2405520" y="1330560"/>
                <a:ext cx="215640" cy="2160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427800">
                <a:off x="1999440" y="127224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709320" y="4125960"/>
              <a:ext cx="630720" cy="614160"/>
              <a:chOff x="6709320" y="4125960"/>
              <a:chExt cx="630720" cy="614160"/>
            </a:xfrm>
          </p:grpSpPr>
          <p:sp>
            <p:nvSpPr>
              <p:cNvPr id="101" name=""/>
              <p:cNvSpPr/>
              <p:nvPr/>
            </p:nvSpPr>
            <p:spPr>
              <a:xfrm rot="21334200">
                <a:off x="6717240" y="416232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334200">
                <a:off x="6872040" y="414216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987640" y="2349360"/>
            <a:ext cx="831960" cy="67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796000" y="549360"/>
            <a:ext cx="831960" cy="67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003640" y="1700280"/>
            <a:ext cx="831960" cy="677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635280" y="3789360"/>
            <a:ext cx="831960" cy="677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1268280"/>
            <a:ext cx="6049800" cy="60501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468360" y="-1611360"/>
            <a:ext cx="6050160" cy="60501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5055840"/>
            <a:ext cx="2615400" cy="1161720"/>
            <a:chOff x="539640" y="5055840"/>
            <a:chExt cx="2615400" cy="1161720"/>
          </a:xfrm>
        </p:grpSpPr>
        <p:sp>
          <p:nvSpPr>
            <p:cNvPr id="110" name=""/>
            <p:cNvSpPr/>
            <p:nvPr/>
          </p:nvSpPr>
          <p:spPr>
            <a:xfrm rot="3999000">
              <a:off x="2367360" y="498384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9640" y="5300640"/>
              <a:ext cx="1800000" cy="916920"/>
            </a:xfrm>
            <a:prstGeom prst="rect">
              <a:avLst/>
            </a:prstGeom>
            <a:solidFill>
              <a:srgbClr val="9933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Dyma’r hanerydd perpendicw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3121200" y="976680"/>
            <a:ext cx="2830320" cy="4257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52:54Z</dcterms:created>
  <dc:creator>Carwyn</dc:creator>
  <dc:description/>
  <dc:language>en-US</dc:language>
  <cp:lastModifiedBy>Carwyn</cp:lastModifiedBy>
  <dcterms:modified xsi:type="dcterms:W3CDTF">2009-07-06T21:00:46Z</dcterms:modified>
  <cp:revision>11</cp:revision>
  <dc:subject/>
  <dc:title>Slide 1</dc:title>
</cp:coreProperties>
</file>